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43BA-C3EE-407C-A9D1-6207315B82B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1E78-0794-44EA-A68D-5FE9323BC7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00A2-0B82-4D0E-81D1-143E736BB3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7205-A873-4B93-B564-248A8BD24D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F82C-5866-4E23-9335-A766EC9D9B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AA3F-C57D-49EA-8400-FB082F8C0D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CE27-00E2-4A93-B317-2549CF8ECA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031-2926-44F9-9EF0-E5C7281B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6D0-43F2-4350-B04B-EBF76CCF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E0532-88EA-498A-B27F-D8353A47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7E542-C6B7-47F1-9BB1-81AC94B8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8992E-D562-46E7-AE2F-E5261B4A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5AB10-E126-48B2-A4E9-B07791D6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CFABB-E432-4ACD-A225-DC7D124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B411F-067E-4FDB-B124-DC254AD1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36337-0945-4373-9F06-72B7A8C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EB698-E46E-4E77-8EF9-B8DE9168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2A0C7-9D55-4499-A880-42CC7B79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40711-B455-4011-9AD5-41C3969B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494-B69C-4EAD-92E4-89EB7293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77947-C355-4C99-8BA6-92628F74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B9C677-AA26-405B-8035-4B95B941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8690B-1254-48BB-8719-BB24765C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4F4F6-B202-4A57-BB0A-439A62A6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E550D-72E3-4826-B736-855F8BE1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854D3-130D-4F11-9D54-74FF2ED8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3A9CF-46E1-470F-8476-6D2AEFAD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D777C-A0B5-4B58-AE39-F6BFD04A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9B8FE-9176-4F28-A078-56E614BC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C8E21-5A9E-4811-A62D-BC40A777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5D54-F09D-4A6F-9140-1ACFCA40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4753A-65A2-4D18-9D74-E72FE6C8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760F2-639B-4917-A47C-18629472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F2E7A-1643-476B-AC7B-12EA9544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719E6-A2D1-4DB4-9DE8-6B4BC8A7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74E19-36FF-4DA1-9CAF-07CDE07F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44B60-9083-4841-AC61-BD5A31CB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B3BF6-DEB4-4DBA-89BB-A1F75DCC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99F68-2130-4515-80B8-B823C286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3211A-2AC8-4809-A40F-BA9AD934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302C4-EB90-4D5E-BD9C-3697012D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5046-B22C-440F-B098-0CDCD6F4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D7FED-6693-400C-83A7-CC7EEDD5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B888AF-1F4E-4045-910F-07C59394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B1514-E239-4BEA-9C15-5D1DC211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C91DA-ACD5-42D8-9310-75066BED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DBAB9-C02F-4748-A2A0-0208A714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47767-2AD3-4BDC-8637-59FAAA5A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842A3-A6D1-42D5-BECD-B853240A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4C7F3-F6FD-4FC3-8EC4-9204A033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D673E-868E-40FA-85D3-421BEB2D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742AF6-BE45-443E-99F0-E0C0FBA5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5D80-8853-4B9A-B1D2-6CC9D009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701C8-6712-4CD4-9994-7716DFA2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EAF2A-D8C3-4255-AF6B-9E42BFB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A4841-C466-4574-8C43-23B746AC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BE306-0D5A-41B7-8E53-0875C52FC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680A1-E223-4B37-8CD7-2D5A2E25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902A-3A9D-41CA-BF7B-88EF3715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B72E-EA84-4064-91B4-E839240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ABE5-0C6E-46C9-80C6-D5EB8D56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5311-AD26-4EE3-8EF9-AA0BC0B1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0531-04E3-4D95-8B6D-2FE75D74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BFBD-F8FB-446A-B5C4-533F765F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F008-E5C2-4445-B073-CFE40B95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CF3B-C068-47C7-932E-C316BAE8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D7B6-5168-47C4-A99D-576A1118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9D2E-A12A-4B34-8CEA-6756256E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EF3C-AA4C-4D56-8FAD-B86AF1DC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992E5-0FC5-4F98-B0DD-96B03B67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D96F-3158-42F9-A840-2CECC8FA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0D474-BB5E-426C-864B-331D6BE9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9D42-668A-47BA-8F4E-CBCE4128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9FC50-71D6-4A6D-A74D-CF8EB965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957-23DF-4511-8D21-B778663D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234CB-C7CE-44B7-9530-DC493AD7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0081-8C39-4B35-9A8A-316405E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E1AD-70DC-4FFF-8DF5-4EE98747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DAC73-4C78-4E10-8705-F429D2AB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2CBB-C661-40E7-9CA4-C2A91387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8137F-4448-4AA7-B2A3-F72BA347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877EB-AC8D-462E-92C0-259B3A2EA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C2E58-DDBD-4BB3-B3CC-9C2D856D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404D7-5EDB-49D4-BE52-2D850CEF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DAA0F-E9A5-4CCA-8F45-1A2AF07CE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ED6-7488-4AAE-ADBB-C3499237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202A0-4CB7-4111-A03D-4BA15815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3D849-1DF2-445C-8227-04E6BF26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E662A-ADB8-47EC-9E79-88C15559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2B397-F23A-4A3C-938F-88D3B768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4C242-8279-49AF-951B-3DF1FFE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F469F-E7A9-4C60-AEA3-B01C495F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497EB-051B-4B46-999F-0FEE37AC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F6CD5-7DAC-4CD4-ABC7-E1B3EBEF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46062-0AF8-46AD-9CEE-97D4E367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1C49C-2595-4D2C-BDC0-86D55FA3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E5D3-0D82-4145-ABD2-D4F80F93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4A084-3B29-4D18-96BA-01D19803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0BC9D-32DA-491E-9093-04E5D66B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D41E4-344D-4AAD-9594-CB63B8FE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05FB7-0687-4B8D-A823-86083949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C899D-6443-4715-B9B6-5546B5AB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E5EF1-357E-4872-86D1-7FFCDC59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F254E-E5EA-4B85-97E7-29854B90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5CD4-451C-43A2-BDEC-7CEF0699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57847-53F8-4966-B42D-A385D5A8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2021E-1FCA-45DE-A01A-A1F9ECFE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F71-6A37-4D79-A49A-9A307B44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78CBE-FB5E-494E-BBBC-B7706D04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C14FA-AAB8-4126-ADF0-65E7E471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66E1E-1E66-481D-841A-C36753D7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894AF-494A-4180-AAE7-FEE6B7DD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DEC2F-9046-423B-8718-257E3242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CA572-3166-4DC6-95DE-CB59AA88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C1EE5-B9FF-43A5-A608-54B53253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F7061-1EEC-4C47-9D84-F98B95F0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B772D-7C37-418A-A075-DE0F1912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F1424-3AEB-4030-862D-25DAAD73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D16-6FCC-4535-8A24-0F64624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B3DBB-AED0-41B7-9041-272EABFE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C03E6-2D53-48D7-99E8-332E140F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61733-6769-4920-AD95-9DDDD47D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9C3A3-8560-41E6-A2CD-C6FAF391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CA862-E0E7-4FA9-AFC9-4FD84537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D72D5-5604-41B9-9742-93EEAB65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2F67D-D79E-4524-BBDC-6E5AF7E3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2E9F0-4F04-4FED-8485-BD1E28D3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2F265-6736-4667-8837-BF385AA9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14A7D-7E95-4863-8C1B-00B0F942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EE6-2872-4FAF-9046-8C45BB1B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FB379-7734-404F-B119-66E7AA88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B754E-33AA-4EF1-A145-7B512A65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B0002-6367-4E1A-A29E-E4BED138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7C112-0D35-4FD5-8AFF-2A146182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D6E03-99A5-4BF7-8FA5-5F1B08B7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41522-6E6C-463E-85B6-0348378B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D1036-BF88-4C40-8E24-6E26DB5D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44997-11C6-4C24-B5CE-4DBDC3A0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4E2CF-7E62-49E9-93B3-58A97155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C5365-F711-4625-AE6E-8291B9FD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C12-CE67-4F00-91DD-F670B70E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5A413-AE07-4FFE-AD3C-8B64967B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0D52D-F860-48FB-A7DC-E86EE096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6D06D-07A0-416D-AD65-FE3675AE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BB0D0-7B5C-4D51-902C-C2D8AA23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75400"/>
            <a:ext cx="822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76F32-6359-41CB-9CAD-8A84AA21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75400"/>
            <a:ext cx="4015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8BCF8-682D-4CC6-A5C1-5293AEE9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75400"/>
            <a:ext cx="2649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BB2B5-9A3F-4D76-AA27-D2FFB23D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A6D79-448C-411F-B61E-BDD7924C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BF5B2-D2AA-4D4B-9AAB-445F9E6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B4D40-9BBD-43DE-866F-CA1F0732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FFDC-CCB3-4F30-932C-FE1FAAD7A3D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0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1BDF-3CD2-47C0-BFEF-9EF05693630A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5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471A-1081-45D5-B87C-C1DD2D10887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9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DB9E-6D25-4D5A-BA72-8AE4E1AB0DB0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4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021F-6BB7-4B64-83D4-EC743045929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9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FC98-90CE-48B8-95D6-0F9AE24B422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3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FFF0-E26B-407C-8984-7D59A63A4AB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18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CC69-BA79-4CEF-882A-020AB2977203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2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C0F7-7FDF-4F87-BF0F-1FD3B370E81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27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409B-A13F-4C32-9F4C-B00A4B4103A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16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0C57-5559-4233-8DB7-537B238A180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1"/>
          <p:cNvGrpSpPr/>
          <p:nvPr/>
        </p:nvGrpSpPr>
        <p:grpSpPr>
          <a:xfrm>
            <a:off x="0" y="6248520"/>
            <a:ext cx="9144000" cy="609480"/>
            <a:chOff x="0" y="6248520"/>
            <a:chExt cx="9144000" cy="609480"/>
          </a:xfrm>
        </p:grpSpPr>
        <p:sp>
          <p:nvSpPr>
            <p:cNvPr id="361" name="Rectangle 3"/>
            <p:cNvSpPr/>
            <p:nvPr/>
          </p:nvSpPr>
          <p:spPr>
            <a:xfrm>
              <a:off x="0" y="6248520"/>
              <a:ext cx="9144000" cy="609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"/>
            <p:cNvSpPr/>
            <p:nvPr/>
          </p:nvSpPr>
          <p:spPr>
            <a:xfrm>
              <a:off x="504720" y="6431040"/>
              <a:ext cx="3533760" cy="276480"/>
            </a:xfrm>
            <a:prstGeom prst="rect">
              <a:avLst/>
            </a:prstGeom>
            <a:solidFill>
              <a:srgbClr val="1c55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Metropolitan Transporta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</a:rPr>
                <a:t>Author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5" descr=""/>
            <p:cNvPicPr/>
            <p:nvPr/>
          </p:nvPicPr>
          <p:blipFill>
            <a:blip r:embed="rId2"/>
            <a:stretch/>
          </p:blipFill>
          <p:spPr>
            <a:xfrm>
              <a:off x="160200" y="6326280"/>
              <a:ext cx="401760" cy="44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22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81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85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F918-61B9-4D4D-AC58-836EF7F873C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09680"/>
            <a:ext cx="8382240" cy="1470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w Fare Payment System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447920" y="44193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Program Oversight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3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tasymbolpms286"/>
          <p:cNvPicPr/>
          <p:nvPr/>
        </p:nvPicPr>
        <p:blipFill>
          <a:blip r:embed="rId1"/>
          <a:stretch/>
        </p:blipFill>
        <p:spPr>
          <a:xfrm>
            <a:off x="3835440" y="914400"/>
            <a:ext cx="12826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315B-B887-4E67-9A07-DD96D6530FE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ation of bus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commercial relationship with payments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way communication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A-issued card &amp;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from Metro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fecti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ng forward: Next 6 mon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detailed requirements for MTA-issued card and reloa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roject Plan: requirements, cost estimate, schedule, procur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payments industry negotiation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ze subway communications network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ystem Integ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hardware on Staten Isl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3981-272A-4249-A077-14B4B4240AA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AA95-8730-4532-B804-5B4323E6D8D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TA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of revenue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15¢ cost per revenue dollar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fare payment across modes &amp;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antially reduce cash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performance at turnstiles &amp;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up bus boarding and reduce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-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B0B3-9571-4597-952A-0EFA3F487D2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-based, not card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like E-Z Pass, less like Metro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may reside with bank, MTA, mobile phone network or oth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y provi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 ent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ustomer wil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t swipe, at readers on turnstiles and fare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 contactless credit/debit card, prepaid card, phone or MTA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185E-321C-4819-890D-472AFAA8E2D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re payment concep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urage customers to self-serve on-line, at ATMs and kiosks, and via widespread external network of retail merch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e existing payment industry infrastructure,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relatively inexpensive and commercially available off-the-shelf-hardware and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ble to all modes and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involved in concep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gencies have or will have pi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ED82-032E-4F73-81CE-2252F0AEE3A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ter railroad pil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lot for each LIRR and MN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board and off-board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 test hand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ots commence in 1Q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3CFB-073B-4208-9FBB-A5BC7F99DC0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238D-519E-43F9-AD41-E186E341DF4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9C2B-90B2-416C-9347-820A4A98F1D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y outreach: Suppl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industry interest about thi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0: 150 representatives from 80 vend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 industry including banks and other issuers, card brands, acqui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teg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network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e collection system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ervice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Slide Number Placeholder 5"/>
          <p:cNvSpPr/>
          <p:nvPr/>
        </p:nvSpPr>
        <p:spPr>
          <a:xfrm>
            <a:off x="685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1BE7-8F87-4397-8FDA-22457B0F8B3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y outreach: Transit author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mplementations of open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(Tf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t Lake City (U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lose contact with major US transit systems that are procuring open paymen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regional partners on seamless intermodal tra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YNJ/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18:28:26Z</dcterms:created>
  <dc:creator>Amy Linden</dc:creator>
  <dc:description/>
  <dc:language>en-US</dc:language>
  <cp:lastModifiedBy>Amy Linden</cp:lastModifiedBy>
  <cp:lastPrinted>2011-05-17T22:27:13Z</cp:lastPrinted>
  <dcterms:modified xsi:type="dcterms:W3CDTF">2011-05-19T17:45:26Z</dcterms:modified>
  <cp:revision>458</cp:revision>
  <dc:subject/>
  <dc:title>New Fare Payment Systems</dc:title>
</cp:coreProperties>
</file>